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1940-CA73-4EC6-A394-051F21CD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480-64B8-40F5-85E6-080975AB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58D-C66F-4681-87D9-CF333497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832-8E9B-4F1E-BDBC-031835FC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949-03A8-4171-9B73-D3908200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8E6-2417-404D-BB9F-F0798F9E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8C0-AFB4-4B6C-974D-B8C446E2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81E-1F7B-4CC1-8BCA-E4B10DC3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760-7C9C-444B-816F-C500748E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662-8AC2-4CCC-9204-8A6A4FC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7CB-CF48-4304-8D7D-0B95206E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74E-E4AE-47AD-9EE5-92D60AB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FFF-98A5-42F8-A042-40F2C411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C8C-3889-40A0-9EE5-0F51DC0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1BE-1EA7-46B3-8F29-8B89C012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0" y="1905120"/>
            <a:ext cx="4648320" cy="37782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10-26 &amp; 27-11 Use p. 88, first and second 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belief in one, supreme G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daism, Christianity, and Islam all look to the ancient city of  __________ as a holy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ewish holy book is called the 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0" y="0"/>
            <a:ext cx="2666880" cy="1751400"/>
          </a:xfrm>
          <a:prstGeom prst="rect">
            <a:avLst/>
          </a:prstGeom>
          <a:solidFill>
            <a:srgbClr val="fd2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10-26 &amp; 2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omplete G.R. 3-2 DUE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T out Religion Chart  we did la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295280" y="2971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monothe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5720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0" descr="moses"/>
          <p:cNvPicPr/>
          <p:nvPr/>
        </p:nvPicPr>
        <p:blipFill>
          <a:blip r:embed="rId1"/>
          <a:stretch/>
        </p:blipFill>
        <p:spPr>
          <a:xfrm>
            <a:off x="5867280" y="609480"/>
            <a:ext cx="2667240" cy="3200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Prophet muhammad.bmp (325518 bytes)"/>
          <p:cNvPicPr/>
          <p:nvPr/>
        </p:nvPicPr>
        <p:blipFill>
          <a:blip r:embed="rId2"/>
          <a:stretch/>
        </p:blipFill>
        <p:spPr>
          <a:xfrm>
            <a:off x="4343400" y="0"/>
            <a:ext cx="158112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holy-koran2"/>
          <p:cNvPicPr/>
          <p:nvPr/>
        </p:nvPicPr>
        <p:blipFill>
          <a:blip r:embed="rId3"/>
          <a:srcRect l="30631" t="14630" r="29662" b="7897"/>
          <a:stretch/>
        </p:blipFill>
        <p:spPr>
          <a:xfrm>
            <a:off x="2666880" y="-228600"/>
            <a:ext cx="16988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CHR123A18"/>
          <p:cNvPicPr/>
          <p:nvPr/>
        </p:nvPicPr>
        <p:blipFill>
          <a:blip r:embed="rId4"/>
          <a:srcRect l="18188" t="14291" r="7277" b="17864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11430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2c09"/>
                </a:solidFill>
                <a:latin typeface="Arial"/>
              </a:rPr>
              <a:t>To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63360" y="-1095480"/>
            <a:ext cx="20289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f5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deastmap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800600" y="350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029200" y="3733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371600" y="457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95840" y="117144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99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Arial"/>
              </a:rPr>
              <a:t>Juda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under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Abrah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Holy Days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Hanukah, and Pass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Sacred Book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the To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lace of Worship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a Synag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llowers called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-  Jews (about 13 mil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eliefs and Practices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..     pray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..     Tzedakah (char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. .    Special diet laws (Kosh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D. .    observing the Shabbat (Sabbath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.  .    the  10   commandments given to M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MCSO01858_0000[1]"/>
          <p:cNvPicPr/>
          <p:nvPr/>
        </p:nvPicPr>
        <p:blipFill>
          <a:blip r:embed="rId1"/>
          <a:stretch/>
        </p:blipFill>
        <p:spPr>
          <a:xfrm>
            <a:off x="4805280" y="2128680"/>
            <a:ext cx="37242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n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Jesus (about 2000 y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ly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Good Friday, Easter, Christ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cred 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ce of Wo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llower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Christians (about 1.2 billion) (largest # of follow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acher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iest, preacher, pastor, 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 &amp; Practic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yer, charity, church attendance, baptism, Jesus is the Messiah, the golden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Pj04096760000[1]"/>
          <p:cNvPicPr/>
          <p:nvPr/>
        </p:nvPicPr>
        <p:blipFill>
          <a:blip r:embed="rId1"/>
          <a:stretch/>
        </p:blipFill>
        <p:spPr>
          <a:xfrm>
            <a:off x="6477120" y="0"/>
            <a:ext cx="2152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78520" y="578520"/>
            <a:ext cx="26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Monotheistic 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143000"/>
          <a:ext cx="8615160" cy="5100480"/>
        </p:xfrm>
        <a:graphic>
          <a:graphicData uri="http://schemas.openxmlformats.org/drawingml/2006/table">
            <a:tbl>
              <a:tblPr/>
              <a:tblGrid>
                <a:gridCol w="1174680"/>
                <a:gridCol w="882720"/>
                <a:gridCol w="914400"/>
                <a:gridCol w="836640"/>
                <a:gridCol w="1373040"/>
                <a:gridCol w="1219320"/>
                <a:gridCol w="1069920"/>
                <a:gridCol w="1144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1800 B.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Christia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33 C.E. (or A.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largest  # of follo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Means to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PlainPensleXBold"/>
                          <a:ea typeface="Times New Roman"/>
                        </a:rPr>
                        <a:t>“surrender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622 C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(or A.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212"/>
          <p:cNvSpPr/>
          <p:nvPr/>
        </p:nvSpPr>
        <p:spPr>
          <a:xfrm>
            <a:off x="0" y="62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4"/>
          <p:cNvSpPr/>
          <p:nvPr/>
        </p:nvSpPr>
        <p:spPr>
          <a:xfrm>
            <a:off x="1450800" y="1752480"/>
            <a:ext cx="9144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oses gave 10 command-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5"/>
          <p:cNvSpPr/>
          <p:nvPr/>
        </p:nvSpPr>
        <p:spPr>
          <a:xfrm>
            <a:off x="2286000" y="182880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uk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ass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Yom Kip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6"/>
          <p:cNvSpPr/>
          <p:nvPr/>
        </p:nvSpPr>
        <p:spPr>
          <a:xfrm>
            <a:off x="3276720" y="1676520"/>
            <a:ext cx="76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7"/>
          <p:cNvSpPr/>
          <p:nvPr/>
        </p:nvSpPr>
        <p:spPr>
          <a:xfrm>
            <a:off x="3276720" y="1752480"/>
            <a:ext cx="838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or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Yahweh or Jehov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9"/>
          <p:cNvSpPr/>
          <p:nvPr/>
        </p:nvSpPr>
        <p:spPr>
          <a:xfrm>
            <a:off x="5486400" y="1676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ynag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0"/>
          <p:cNvSpPr/>
          <p:nvPr/>
        </p:nvSpPr>
        <p:spPr>
          <a:xfrm>
            <a:off x="6858000" y="1676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1"/>
          <p:cNvSpPr/>
          <p:nvPr/>
        </p:nvSpPr>
        <p:spPr>
          <a:xfrm>
            <a:off x="7772400" y="1676520"/>
            <a:ext cx="1143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3"/>
          <p:cNvSpPr/>
          <p:nvPr/>
        </p:nvSpPr>
        <p:spPr>
          <a:xfrm>
            <a:off x="4114800" y="16765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4"/>
          <p:cNvSpPr/>
          <p:nvPr/>
        </p:nvSpPr>
        <p:spPr>
          <a:xfrm>
            <a:off x="4038480" y="1752480"/>
            <a:ext cx="14479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ab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ll Looking for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osen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1600200" y="3352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286000" y="3352680"/>
            <a:ext cx="990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Good Fri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3241800" y="33415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2362320" y="4952880"/>
            <a:ext cx="990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amad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1413000" y="4946760"/>
            <a:ext cx="11430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roph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4114800" y="3376440"/>
            <a:ext cx="144792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Jesus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the Messi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sus is God’s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5521320" y="3341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u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114800" y="4724280"/>
            <a:ext cx="13892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Jerusalem—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ve pillars of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one G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3235320" y="4946760"/>
            <a:ext cx="685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Ko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*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God called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772400" y="332892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 &amp; S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6858000" y="32767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rist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7819920" y="4876920"/>
            <a:ext cx="10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6934320" y="4800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5538960" y="4807080"/>
            <a:ext cx="86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cca in Saudi Arabia is a most holy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MCj02768760000[1]"/>
          <p:cNvPicPr/>
          <p:nvPr/>
        </p:nvPicPr>
        <p:blipFill>
          <a:blip r:embed="rId1"/>
          <a:stretch/>
        </p:blipFill>
        <p:spPr>
          <a:xfrm>
            <a:off x="1066680" y="4800600"/>
            <a:ext cx="322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990720" y="1981080"/>
            <a:ext cx="75438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DAYS: Ramadan, Eid al-Fi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RED BOOK: Qur’an or Ko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WORSHIP: Mo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CALLED: Mus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FS &amp; PRACT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Pillars of F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elief in one God (All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Pray 5 times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Charity (giving to the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Fasting during the month of Rama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Making a hajj (journey) to Mecca at least once in your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2768760000[1]"/>
          <p:cNvPicPr/>
          <p:nvPr/>
        </p:nvPicPr>
        <p:blipFill>
          <a:blip r:embed="rId1"/>
          <a:stretch/>
        </p:blipFill>
        <p:spPr>
          <a:xfrm>
            <a:off x="1066680" y="0"/>
            <a:ext cx="1635120" cy="1933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Papyrus"/>
              </a:rPr>
              <a:t>I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j0301050"/>
          <p:cNvPicPr/>
          <p:nvPr/>
        </p:nvPicPr>
        <p:blipFill>
          <a:blip r:embed="rId2"/>
          <a:stretch/>
        </p:blipFill>
        <p:spPr>
          <a:xfrm>
            <a:off x="6324480" y="3581280"/>
            <a:ext cx="1820880" cy="133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Cj03103280000[1]"/>
          <p:cNvPicPr/>
          <p:nvPr/>
        </p:nvPicPr>
        <p:blipFill>
          <a:blip r:embed="rId3"/>
          <a:stretch/>
        </p:blipFill>
        <p:spPr>
          <a:xfrm>
            <a:off x="640080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8:40:37Z</dcterms:created>
  <dc:creator>Selena Ramsey</dc:creator>
  <dc:description/>
  <dc:language>en-US</dc:language>
  <cp:lastModifiedBy>poweruser</cp:lastModifiedBy>
  <dcterms:modified xsi:type="dcterms:W3CDTF">2011-10-26T12:55:45Z</dcterms:modified>
  <cp:revision>307</cp:revision>
  <dc:subject/>
  <dc:title>Slide 1</dc:title>
</cp:coreProperties>
</file>